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10C-BEFB-4701-989D-3CEB3900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B17D-5550-4EEF-A59B-58554ED9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7BF-FC19-489F-B61A-30966280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745-FB16-4FA2-B474-2DA155D6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08F-9965-4498-A4AA-8F29300B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DAB-968B-47D0-B7FD-ECB3B6B1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2E3-0769-49AB-A189-FD136570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07D-C895-4490-A5B2-633B13D9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EBD-31D8-451E-8D33-019FCE97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2AE-5F4E-40B2-A7F2-519C75EE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E2D-7974-4083-9A4E-F58F2019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3637-55B3-450B-88A4-6B39DB79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E2F5-F0CD-421D-8AE0-21D16768811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brasil.gov.br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708280"/>
            <a:ext cx="830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106200"/>
            <a:ext cx="1876320" cy="87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115920"/>
            <a:ext cx="2514600" cy="838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1600200"/>
            <a:ext cx="7993080" cy="26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Arial"/>
              </a:rPr>
              <a:t>Resolução de Reúso de Água – CN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ONSELHO NACIONAL DE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âmara Técnica de Ciência e 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XVI Simpósio Brasileiro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029200"/>
            <a:ext cx="8208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99"/>
                </a:solidFill>
                <a:latin typeface="Times New Roman"/>
              </a:rPr>
              <a:t>Engº Agrº Devanir Garcia dos Santos</a:t>
            </a:r>
            <a:br>
              <a:rPr sz="1600"/>
            </a:br>
            <a:r>
              <a:rPr b="1" lang="pt-BR" sz="1600" spc="-1" strike="noStrike">
                <a:solidFill>
                  <a:srgbClr val="009999"/>
                </a:solidFill>
                <a:latin typeface="Times New Roman"/>
              </a:rPr>
              <a:t>MSc Gestão Econômica do Meio Ambiente</a:t>
            </a:r>
            <a:br>
              <a:rPr sz="1600"/>
            </a:br>
            <a:r>
              <a:rPr b="1" lang="pt-BR" sz="1600" spc="-1" strike="noStrike">
                <a:solidFill>
                  <a:srgbClr val="009999"/>
                </a:solidFill>
                <a:latin typeface="Times New Roman"/>
              </a:rPr>
              <a:t>Gerente da Superintendência de Conservação de Água e Solo</a:t>
            </a:r>
            <a:br>
              <a:rPr sz="1600"/>
            </a:br>
            <a:br>
              <a:rPr sz="1600"/>
            </a:br>
            <a:r>
              <a:rPr b="1" lang="pt-BR" sz="2000" spc="-1" strike="noStrike">
                <a:solidFill>
                  <a:srgbClr val="009999"/>
                </a:solidFill>
                <a:latin typeface="Times New Roman"/>
              </a:rPr>
              <a:t>João Pessoa - Novembro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26028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ÉRIO DO MEIO 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POSTA DE RESOLUÇÃO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úso Direto não Potável de Á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Considerando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 reúso de água constitui prática de racional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 escassez está relacionada a aspectos de qualidade e quantidade de águ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São elevados os custos de tratamento da águ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 prática de reúso contribui para a proteção do meio ambi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Finalidade: estabelecer modalidades, diretrizes, critérios gerais que regulamentem e estimulem a prática de reúso no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úso Direto não Potável de Á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rbano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irrigação paisagística, lavagem de logradouros públicos, desobstrução de tubulações, etc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grícolas e florestai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aplicação de água de reúso para produção agrícola e cultivo de florestas plantada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mbientais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utilização de água de reúso para a implantação de projetos de recuperação ambienta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dustriais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( utilização de água de reúso em processos, atividades e operações industriai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qüicultura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 utilização de água de reúso para a criação de animais ou cultivo de vegetais aquátic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"/>
              </a:rPr>
              <a:t>Reúso Direto não Potável de Á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incipais propostas da resolu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órgãos integrantes do SINGREH avaliarão os efeitos sobre os corpos hídricos e estabelecerão instrumentos regulatórios e de ince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planos de recursos hídricos deverão contemplar estudos de alternativas de utilização da água de reú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SIRH deverão incorporar, organizar e tornar disponíveis  as informações sobre práticas de reuso necessárias  ao gerenciamento dos recursos hídr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comitês dever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por, na implementação da cobrança pelo uso da água, instrumento econômicos e financeiros que induzam a prática do reú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tegrar, no âmbito do Plano de Recursos Hídricos da bacia, a prática do reúso com as ações de saneamento ambiental e de uso e ocupação do so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"/>
              </a:rPr>
              <a:t>Reúso Direto não Potável de Á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incipais propostas da resolu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 atividade de reúso de água deverá ser informada, quando requerida, ao órgão gesto de recursos hídricos, para fins de cadast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Deverão ser incentivado e promovidos programas de capacitação, mobilização social e informação quanto a sustentabilidade do reúso, em especial nos aspectos sanitários e ambient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O disposto nesta Resolução não exime o produtor, o distribuidor e o usuário de água de reúso não potável da respectiva licença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40240" y="3922560"/>
            <a:ext cx="4575240" cy="29019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440240" y="846000"/>
            <a:ext cx="4575240" cy="29019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1800" y="2536920"/>
            <a:ext cx="2384280" cy="34621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96720" y="1057320"/>
            <a:ext cx="355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POLUIÇÃO NO RIO TIET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012000"/>
            <a:ext cx="332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Verdana"/>
              </a:rPr>
              <a:t>Pirapora do Bom Jesus / 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41640" y="3083040"/>
            <a:ext cx="5202360" cy="3774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76720" cy="3843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92720" y="47628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io Tietê – Década de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501336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91280" y="1484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io Tietê – Década de 90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1989000"/>
            <a:ext cx="358560" cy="719280"/>
          </a:xfrm>
          <a:prstGeom prst="downArrow">
            <a:avLst>
              <a:gd name="adj1" fmla="val 50000"/>
              <a:gd name="adj2" fmla="val 501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530064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90792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501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79736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?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8770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io Tietê – Em 204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378936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Setor Policial - Área 5 – Quadra 3 - Bloco L - Brasília – DF - 70610-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Telefone: (61) 2109-5212 - sas@ana.gov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ourier New"/>
              </a:rPr>
              <a:t>http://www.ana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ourier New"/>
              </a:rPr>
              <a:t>devanir@ana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ourier New"/>
              </a:rPr>
              <a:t>Obriga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" y="0"/>
            <a:ext cx="9140760" cy="907920"/>
          </a:xfrm>
          <a:custGeom>
            <a:avLst/>
            <a:gdLst/>
            <a:ahLst/>
            <a:rect l="l" t="t" r="r" b="b"/>
            <a:pathLst>
              <a:path w="5740" h="1906">
                <a:moveTo>
                  <a:pt x="0" y="0"/>
                </a:moveTo>
                <a:lnTo>
                  <a:pt x="0" y="1906"/>
                </a:lnTo>
                <a:lnTo>
                  <a:pt x="5740" y="1906"/>
                </a:lnTo>
                <a:lnTo>
                  <a:pt x="574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0"/>
            <a:ext cx="363528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16747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5508720" y="0"/>
            <a:ext cx="3635280" cy="1598760"/>
            <a:chOff x="5508720" y="0"/>
            <a:chExt cx="3635280" cy="159876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508720" y="263520"/>
              <a:ext cx="363528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572440" y="0"/>
              <a:ext cx="354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Hv BT"/>
                </a:rPr>
                <a:t>MINISTÉRIO DO MEIO AMB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9:37:57Z</dcterms:created>
  <dc:creator>devanir</dc:creator>
  <dc:description/>
  <dc:language>en-US</dc:language>
  <cp:lastModifiedBy>devanir</cp:lastModifiedBy>
  <dcterms:modified xsi:type="dcterms:W3CDTF">2005-11-17T14:57:38Z</dcterms:modified>
  <cp:revision>22</cp:revision>
  <dc:subject/>
  <dc:title>Slide 1</dc:title>
</cp:coreProperties>
</file>